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0EE-AB15-4CDD-894F-82707416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8F2-E46C-48E3-A2F1-5754A0CF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693-3DAF-41C7-8ECB-23D66298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78C-5A56-43BB-B725-6D8B2769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9B6-E73A-47D8-AF35-98D8E712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7EE-1F62-45EA-9CFB-D746170A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498-AC1F-45A8-8573-98C29942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1A4-61C7-4553-ADD7-87010ADA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1B79-C113-48F2-B486-63ACA516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BBC4-0FD9-46BE-9026-47CB574F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C00D-85C9-44B5-BCC7-E2B56606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7A3-DDB0-43E2-9794-B1D3890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36C9-574B-421E-8AFD-935982441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367"/>
          <a:stretch/>
        </p:blipFill>
        <p:spPr>
          <a:xfrm>
            <a:off x="457200" y="304920"/>
            <a:ext cx="8305920" cy="6019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5334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609480" y="556272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510552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1143000" y="53341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78360" y="536724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371240" y="5562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5600" y="518148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p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980720" y="54100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09680" y="5410080"/>
            <a:ext cx="1526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5410080"/>
            <a:ext cx="75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62320" y="54100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64832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x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971440" y="50292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2640" y="54100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dg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23360" y="491004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4600" y="518148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3240" y="541008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267080" y="51055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571640" y="541008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28840" y="5638680"/>
            <a:ext cx="3049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0666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roll Library of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5760" y="160020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F8 to Open or C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9:21:46Z</dcterms:created>
  <dc:creator>Rye Schools</dc:creator>
  <dc:description/>
  <dc:language>en-US</dc:language>
  <cp:lastModifiedBy>Rye Schools</cp:lastModifiedBy>
  <dcterms:modified xsi:type="dcterms:W3CDTF">2008-01-04T19:24:13Z</dcterms:modified>
  <cp:revision>2</cp:revision>
  <dc:subject/>
  <dc:title>Slide 1</dc:title>
</cp:coreProperties>
</file>